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00"/>
                </a:solidFill>
                <a:latin typeface="Gill Sans"/>
              </a:rPr>
              <a:t>Click to move the slide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5318-E62A-42A1-B405-AF7858598744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d cookie-less sessions..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C80C-A68E-4BC3-8D1C-75D0A8F08774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4F6F-EAD3-4F9C-8D76-B88D2FDB9974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B1C8-0C60-4997-9CD1-98A6ACBC5553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B7D7-02FD-409A-8343-0D7BC361F18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1B0C-129A-4AD5-93A8-8D46E5B71222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24E5-9F64-428A-AC7E-7C168FD7BB5C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1B15-7CD3-4FA0-8ACC-EF1CF18D284C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1EA6-B01D-424A-81FD-410516446749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C248-DCF5-43F3-AC46-C2F65842BDA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1ED0-BEDD-4FA9-9B16-5C8A7F47F0C3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69B-78E9-4951-8703-9DDE4324FE49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880E-D0E7-4463-845B-C4195415D79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A3C-026F-4348-8334-68847D40737A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s an aside..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9B46-6521-43F9-97F1-9FF52FBAA0CC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79B2-73C8-4439-999E-D3C184FC3371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 from Chuck.   Please retain and maintain this page as you remix and republish these materials.  Please add any of your own improvements or contributions.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B1D2-99FC-45F0-9F0C-9516DABFE1C6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7BB3-CDA0-4AD1-BBD9-451F43428635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0495-6FD1-4388-80D9-E792380FB010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8572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46160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0984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98572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046160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indent="0" algn="ctr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09840" y="914400"/>
            <a:ext cx="1323792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indent="0" algn="ctr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8572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461600" y="259056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0984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598572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10461600" y="5390280"/>
            <a:ext cx="426240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09840" y="914400"/>
            <a:ext cx="1323792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4960"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92960" y="539028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984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92960" y="2590560"/>
            <a:ext cx="645984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09840" y="5390280"/>
            <a:ext cx="13237920" cy="25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indent="0">
              <a:spcBef>
                <a:spcPts val="23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00"/>
                </a:solidFill>
                <a:latin typeface="Gill Sans"/>
              </a:rPr>
              <a:t>Click to edit the title text format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4160" y="4710240"/>
            <a:ext cx="13934880" cy="10555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 fontScale="48000"/>
          </a:bodyPr>
          <a:p>
            <a:pPr marL="1638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163800" indent="-16380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63800" indent="-16380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3800" indent="-16380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4" marL="163800" indent="-16380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5" marL="163800" indent="-16380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6" marL="163800" indent="-16380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" name="Picture 8" descr="Top_Bar_Background.png"/>
          <p:cNvPicPr/>
          <p:nvPr/>
        </p:nvPicPr>
        <p:blipFill>
          <a:blip r:embed="rId2"/>
          <a:stretch/>
        </p:blipFill>
        <p:spPr>
          <a:xfrm>
            <a:off x="3240" y="0"/>
            <a:ext cx="16257600" cy="9144000"/>
          </a:xfrm>
          <a:prstGeom prst="rect">
            <a:avLst/>
          </a:prstGeom>
          <a:ln w="0">
            <a:noFill/>
          </a:ln>
        </p:spPr>
      </p:pic>
      <p:sp>
        <p:nvSpPr>
          <p:cNvPr id="7" name="TextBox 9"/>
          <p:cNvSpPr/>
          <p:nvPr/>
        </p:nvSpPr>
        <p:spPr>
          <a:xfrm>
            <a:off x="61920" y="68400"/>
            <a:ext cx="5398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ookies and Sessions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TextBox 10"/>
          <p:cNvSpPr/>
          <p:nvPr/>
        </p:nvSpPr>
        <p:spPr>
          <a:xfrm>
            <a:off x="12168360" y="76320"/>
            <a:ext cx="3692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WEB APPLICATIONS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FOR EVERYBODY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0000"/>
          </a:bodyPr>
          <a:p>
            <a:pPr marL="9471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1" marL="1348560" indent="-7084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2" marL="1747080" indent="-7084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3" marL="2148480" indent="-7084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4" marL="25473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5" marL="25473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6" marL="2547360" indent="-70884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-7920" y="8491680"/>
            <a:ext cx="1625760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" name="Picture 7" descr="Top_Bar_Background.png"/>
          <p:cNvPicPr/>
          <p:nvPr/>
        </p:nvPicPr>
        <p:blipFill>
          <a:blip r:embed="rId2"/>
          <a:stretch/>
        </p:blipFill>
        <p:spPr>
          <a:xfrm>
            <a:off x="3240" y="0"/>
            <a:ext cx="162576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61920" y="68400"/>
            <a:ext cx="5398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ookies and Sessions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2168360" y="76320"/>
            <a:ext cx="3692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WEB APPLICATIONS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FOR EVERYBODY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Cookies and Sessions</a:t>
            </a:r>
            <a:endParaRPr b="0" lang="en-US" sz="78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4160" y="4710240"/>
            <a:ext cx="13934880" cy="22492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Dr. Charles Severance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www.wa4e.com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13547880" y="7416720"/>
            <a:ext cx="196992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191520" y="7340760"/>
            <a:ext cx="89917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http://www.wa4e.com/code/sessions.zi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2262240" y="457200"/>
            <a:ext cx="10761480" cy="75103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9"/>
          <p:cNvSpPr/>
          <p:nvPr/>
        </p:nvSpPr>
        <p:spPr>
          <a:xfrm>
            <a:off x="3938760" y="1371600"/>
            <a:ext cx="826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http://www.wa4e.com/code/sessions/cookie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In a fresh/incognito browser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Left Arrow 7"/>
          <p:cNvSpPr/>
          <p:nvPr/>
        </p:nvSpPr>
        <p:spPr>
          <a:xfrm>
            <a:off x="9348840" y="5925960"/>
            <a:ext cx="812880" cy="381240"/>
          </a:xfrm>
          <a:prstGeom prst="leftArrow">
            <a:avLst>
              <a:gd name="adj1" fmla="val 50000"/>
              <a:gd name="adj2" fmla="val 49978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2262240" y="457200"/>
            <a:ext cx="10761480" cy="75103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3929040" y="1255680"/>
            <a:ext cx="82645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http://www.wa4e.com/code/sessions/cookie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In a fresh/incognito browser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3522600" y="779400"/>
            <a:ext cx="10568160" cy="7373880"/>
          </a:xfrm>
          <a:prstGeom prst="rect">
            <a:avLst/>
          </a:prstGeom>
          <a:ln w="0">
            <a:noFill/>
          </a:ln>
        </p:spPr>
      </p:pic>
      <p:sp>
        <p:nvSpPr>
          <p:cNvPr id="147" name="Left Arrow 7"/>
          <p:cNvSpPr/>
          <p:nvPr/>
        </p:nvSpPr>
        <p:spPr>
          <a:xfrm>
            <a:off x="13200120" y="3483000"/>
            <a:ext cx="814320" cy="380880"/>
          </a:xfrm>
          <a:prstGeom prst="leftArrow">
            <a:avLst>
              <a:gd name="adj1" fmla="val 50000"/>
              <a:gd name="adj2" fmla="val 50114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5257800" y="2076480"/>
            <a:ext cx="82645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Examine Cook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262240" y="457200"/>
            <a:ext cx="10761480" cy="75103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9"/>
          <p:cNvSpPr/>
          <p:nvPr/>
        </p:nvSpPr>
        <p:spPr>
          <a:xfrm>
            <a:off x="3929040" y="1255680"/>
            <a:ext cx="82645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http://www.wa4e.com/code/sessions/cookie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In a fresh/incognito browser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Left Arrow 3"/>
          <p:cNvSpPr/>
          <p:nvPr/>
        </p:nvSpPr>
        <p:spPr>
          <a:xfrm>
            <a:off x="13073040" y="6945480"/>
            <a:ext cx="814320" cy="380880"/>
          </a:xfrm>
          <a:prstGeom prst="leftArrow">
            <a:avLst>
              <a:gd name="adj1" fmla="val 50000"/>
              <a:gd name="adj2" fmla="val 50094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3"/>
          <a:stretch/>
        </p:blipFill>
        <p:spPr>
          <a:xfrm>
            <a:off x="3522600" y="779400"/>
            <a:ext cx="10568160" cy="7373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4"/>
          <a:stretch/>
        </p:blipFill>
        <p:spPr>
          <a:xfrm>
            <a:off x="5148360" y="1687680"/>
            <a:ext cx="9918720" cy="6922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6367320" y="2836800"/>
            <a:ext cx="82645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</a:rPr>
              <a:t>Press Refres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Left Arrow 7"/>
          <p:cNvSpPr/>
          <p:nvPr/>
        </p:nvSpPr>
        <p:spPr>
          <a:xfrm>
            <a:off x="11620440" y="6945480"/>
            <a:ext cx="812880" cy="380880"/>
          </a:xfrm>
          <a:prstGeom prst="leftArrow">
            <a:avLst>
              <a:gd name="adj1" fmla="val 50000"/>
              <a:gd name="adj2" fmla="val 50006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141920" y="642960"/>
            <a:ext cx="13879080" cy="7605720"/>
            <a:chOff x="1141920" y="642960"/>
            <a:chExt cx="13879080" cy="7605720"/>
          </a:xfrm>
        </p:grpSpPr>
        <p:sp>
          <p:nvSpPr>
            <p:cNvPr id="157" name="Rectangle 10"/>
            <p:cNvSpPr/>
            <p:nvPr/>
          </p:nvSpPr>
          <p:spPr>
            <a:xfrm>
              <a:off x="1490400" y="3894120"/>
              <a:ext cx="13530600" cy="43545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</a:rPr>
                <a:t>Apache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8" name="TextBox 4"/>
            <p:cNvSpPr/>
            <p:nvPr/>
          </p:nvSpPr>
          <p:spPr>
            <a:xfrm>
              <a:off x="7572240" y="67680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9" name="TextBox 6"/>
            <p:cNvSpPr/>
            <p:nvPr/>
          </p:nvSpPr>
          <p:spPr>
            <a:xfrm>
              <a:off x="1141920" y="715680"/>
              <a:ext cx="123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</a:rPr>
                <a:t>Time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0" name="TextBox 14"/>
            <p:cNvSpPr/>
            <p:nvPr/>
          </p:nvSpPr>
          <p:spPr>
            <a:xfrm>
              <a:off x="7532640" y="15008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2190240" y="4766040"/>
              <a:ext cx="12672720" cy="158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2" name="TextBox 16"/>
            <p:cNvSpPr/>
            <p:nvPr/>
          </p:nvSpPr>
          <p:spPr>
            <a:xfrm>
              <a:off x="7873920" y="367956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cxnSp>
          <p:nvCxnSpPr>
            <p:cNvPr id="163" name="Straight Arrow Connector 18"/>
            <p:cNvCxnSpPr/>
            <p:nvPr/>
          </p:nvCxnSpPr>
          <p:spPr>
            <a:xfrm>
              <a:off x="4565880" y="1698840"/>
              <a:ext cx="2904840" cy="52848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164" name="Straight Arrow Connector 26"/>
            <p:cNvCxnSpPr/>
            <p:nvPr/>
          </p:nvCxnSpPr>
          <p:spPr>
            <a:xfrm flipV="1">
              <a:off x="4302000" y="2292480"/>
              <a:ext cx="2310840" cy="13248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165" name="Rectangle 22"/>
            <p:cNvSpPr/>
            <p:nvPr/>
          </p:nvSpPr>
          <p:spPr>
            <a:xfrm>
              <a:off x="2190600" y="1766880"/>
              <a:ext cx="2441520" cy="1119240"/>
            </a:xfrm>
            <a:prstGeom prst="rect">
              <a:avLst/>
            </a:prstGeom>
            <a:solidFill>
              <a:srgbClr val="a3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Browser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6" name="TextBox 3"/>
            <p:cNvSpPr/>
            <p:nvPr/>
          </p:nvSpPr>
          <p:spPr>
            <a:xfrm>
              <a:off x="3263760" y="64296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7" name="Right Arrow 1"/>
            <p:cNvSpPr/>
            <p:nvPr/>
          </p:nvSpPr>
          <p:spPr>
            <a:xfrm>
              <a:off x="2387880" y="775440"/>
              <a:ext cx="12342600" cy="660240"/>
            </a:xfrm>
            <a:prstGeom prst="rightArrow">
              <a:avLst>
                <a:gd name="adj1" fmla="val 50000"/>
                <a:gd name="adj2" fmla="val 5002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8" name="Can 24"/>
            <p:cNvSpPr/>
            <p:nvPr/>
          </p:nvSpPr>
          <p:spPr>
            <a:xfrm>
              <a:off x="1795320" y="6648480"/>
              <a:ext cx="1252440" cy="1450800"/>
            </a:xfrm>
            <a:prstGeom prst="can">
              <a:avLst>
                <a:gd name="adj" fmla="val 21578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PHP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Code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69" name="Picture 1" descr=""/>
            <p:cNvPicPr/>
            <p:nvPr/>
          </p:nvPicPr>
          <p:blipFill>
            <a:blip r:embed="rId3"/>
            <a:stretch/>
          </p:blipFill>
          <p:spPr>
            <a:xfrm>
              <a:off x="7800840" y="3160440"/>
              <a:ext cx="857880" cy="6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28"/>
            <p:cNvSpPr/>
            <p:nvPr/>
          </p:nvSpPr>
          <p:spPr>
            <a:xfrm>
              <a:off x="5292000" y="1766160"/>
              <a:ext cx="2441160" cy="1120320"/>
            </a:xfrm>
            <a:prstGeom prst="rect">
              <a:avLst/>
            </a:prstGeom>
            <a:solidFill>
              <a:srgbClr val="a3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Browser zap=42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71" name="Rectangle 31"/>
            <p:cNvSpPr/>
            <p:nvPr/>
          </p:nvSpPr>
          <p:spPr>
            <a:xfrm>
              <a:off x="8328960" y="1766160"/>
              <a:ext cx="2441160" cy="1120320"/>
            </a:xfrm>
            <a:prstGeom prst="rect">
              <a:avLst/>
            </a:prstGeom>
            <a:solidFill>
              <a:srgbClr val="a3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Browser zap=42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72" name="Rectangle 32"/>
            <p:cNvSpPr/>
            <p:nvPr/>
          </p:nvSpPr>
          <p:spPr>
            <a:xfrm>
              <a:off x="12288960" y="1766160"/>
              <a:ext cx="2441160" cy="1120320"/>
            </a:xfrm>
            <a:prstGeom prst="rect">
              <a:avLst/>
            </a:prstGeom>
            <a:solidFill>
              <a:srgbClr val="a3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Browser zap=42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cxnSp>
          <p:nvCxnSpPr>
            <p:cNvPr id="173" name="Straight Arrow Connector 4"/>
            <p:cNvCxnSpPr>
              <a:stCxn id="165" idx="2"/>
            </p:cNvCxnSpPr>
            <p:nvPr/>
          </p:nvCxnSpPr>
          <p:spPr>
            <a:xfrm>
              <a:off x="3412080" y="2886840"/>
              <a:ext cx="98280" cy="1914480"/>
            </a:xfrm>
            <a:prstGeom prst="straightConnector1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4" name="Straight Arrow Connector 35"/>
            <p:cNvCxnSpPr/>
            <p:nvPr/>
          </p:nvCxnSpPr>
          <p:spPr>
            <a:xfrm flipV="1">
              <a:off x="3510360" y="2886120"/>
              <a:ext cx="2574720" cy="1848600"/>
            </a:xfrm>
            <a:prstGeom prst="straightConnector1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5" name="Straight Arrow Connector 36"/>
            <p:cNvCxnSpPr/>
            <p:nvPr/>
          </p:nvCxnSpPr>
          <p:spPr>
            <a:xfrm>
              <a:off x="9483120" y="2886480"/>
              <a:ext cx="1080" cy="1820880"/>
            </a:xfrm>
            <a:prstGeom prst="straightConnector1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6" name="Straight Arrow Connector 37"/>
            <p:cNvCxnSpPr/>
            <p:nvPr/>
          </p:nvCxnSpPr>
          <p:spPr>
            <a:xfrm>
              <a:off x="13509000" y="2886480"/>
              <a:ext cx="34920" cy="1880280"/>
            </a:xfrm>
            <a:prstGeom prst="straightConnector1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7" name="Straight Arrow Connector 38"/>
            <p:cNvCxnSpPr/>
            <p:nvPr/>
          </p:nvCxnSpPr>
          <p:spPr>
            <a:xfrm flipH="1">
              <a:off x="6502680" y="2886840"/>
              <a:ext cx="10080" cy="1956240"/>
            </a:xfrm>
            <a:prstGeom prst="straightConnector1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178" name="TextBox 3"/>
          <p:cNvSpPr/>
          <p:nvPr/>
        </p:nvSpPr>
        <p:spPr>
          <a:xfrm>
            <a:off x="4196520" y="3262320"/>
            <a:ext cx="1519560" cy="589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zap=42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2647800" y="5057640"/>
            <a:ext cx="18288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tcookie()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5597640" y="5025960"/>
            <a:ext cx="19238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$_COOKI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TextBox 26"/>
          <p:cNvSpPr/>
          <p:nvPr/>
        </p:nvSpPr>
        <p:spPr>
          <a:xfrm>
            <a:off x="8526600" y="4959360"/>
            <a:ext cx="192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$_COOKI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TextBox 27"/>
          <p:cNvSpPr/>
          <p:nvPr/>
        </p:nvSpPr>
        <p:spPr>
          <a:xfrm>
            <a:off x="12390480" y="4975200"/>
            <a:ext cx="19224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$_COOKI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83" name="Picture 28" descr=""/>
          <p:cNvPicPr/>
          <p:nvPr/>
        </p:nvPicPr>
        <p:blipFill>
          <a:blip r:embed="rId4"/>
          <a:stretch/>
        </p:blipFill>
        <p:spPr>
          <a:xfrm>
            <a:off x="7205760" y="2532240"/>
            <a:ext cx="414360" cy="284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9" descr=""/>
          <p:cNvPicPr/>
          <p:nvPr/>
        </p:nvPicPr>
        <p:blipFill>
          <a:blip r:embed="rId5"/>
          <a:stretch/>
        </p:blipFill>
        <p:spPr>
          <a:xfrm>
            <a:off x="10288440" y="2558880"/>
            <a:ext cx="414360" cy="28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0" descr=""/>
          <p:cNvPicPr/>
          <p:nvPr/>
        </p:nvPicPr>
        <p:blipFill>
          <a:blip r:embed="rId6"/>
          <a:stretch/>
        </p:blipFill>
        <p:spPr>
          <a:xfrm>
            <a:off x="14225760" y="2536920"/>
            <a:ext cx="41400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PHP Sessions</a:t>
            </a:r>
            <a:endParaRPr b="0" lang="en-US" sz="78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3604680" y="7416720"/>
            <a:ext cx="89917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http://www.wa4e.com/code/sessions.zi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6299280" y="914400"/>
            <a:ext cx="5030640" cy="6669000"/>
          </a:xfrm>
          <a:prstGeom prst="rect">
            <a:avLst/>
          </a:prstGeom>
          <a:solidFill>
            <a:srgbClr val="54b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12244320" y="925560"/>
            <a:ext cx="4013280" cy="66578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7350120" y="947880"/>
            <a:ext cx="328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2144240" y="914400"/>
            <a:ext cx="34624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tabase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6480" y="77940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Down Arrow 7"/>
          <p:cNvSpPr/>
          <p:nvPr/>
        </p:nvSpPr>
        <p:spPr>
          <a:xfrm>
            <a:off x="431640" y="1542960"/>
            <a:ext cx="533520" cy="6734160"/>
          </a:xfrm>
          <a:prstGeom prst="downArrow">
            <a:avLst>
              <a:gd name="adj1" fmla="val 50000"/>
              <a:gd name="adj2" fmla="val 4996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5460840" y="4438800"/>
            <a:ext cx="635040" cy="395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11482560" y="4502160"/>
            <a:ext cx="634680" cy="393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6680160" y="2673360"/>
            <a:ext cx="4479840" cy="4721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TextBox 14"/>
          <p:cNvSpPr/>
          <p:nvPr/>
        </p:nvSpPr>
        <p:spPr>
          <a:xfrm>
            <a:off x="7304040" y="18572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7365960" y="3905280"/>
            <a:ext cx="3619440" cy="3238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TextBox 16"/>
          <p:cNvSpPr/>
          <p:nvPr/>
        </p:nvSpPr>
        <p:spPr>
          <a:xfrm>
            <a:off x="7699320" y="380988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12701520" y="2111400"/>
            <a:ext cx="320040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y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Can 21"/>
          <p:cNvSpPr/>
          <p:nvPr/>
        </p:nvSpPr>
        <p:spPr>
          <a:xfrm>
            <a:off x="13311360" y="6262560"/>
            <a:ext cx="2209680" cy="1008360"/>
          </a:xfrm>
          <a:prstGeom prst="can">
            <a:avLst>
              <a:gd name="adj" fmla="val 50000"/>
            </a:avLst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02" name="Straight Arrow Connector 18"/>
          <p:cNvCxnSpPr/>
          <p:nvPr/>
        </p:nvCxnSpPr>
        <p:spPr>
          <a:xfrm>
            <a:off x="3936600" y="2046240"/>
            <a:ext cx="3353400" cy="505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03" name="Straight Arrow Connector 26"/>
          <p:cNvCxnSpPr/>
          <p:nvPr/>
        </p:nvCxnSpPr>
        <p:spPr>
          <a:xfrm flipV="1">
            <a:off x="3631680" y="2612160"/>
            <a:ext cx="2667960" cy="127800"/>
          </a:xfrm>
          <a:prstGeom prst="straightConnector1">
            <a:avLst/>
          </a:prstGeom>
          <a:ln w="0">
            <a:noFill/>
          </a:ln>
        </p:spPr>
      </p:cxnSp>
      <p:sp>
        <p:nvSpPr>
          <p:cNvPr id="204" name="Rectangle 22"/>
          <p:cNvSpPr/>
          <p:nvPr/>
        </p:nvSpPr>
        <p:spPr>
          <a:xfrm>
            <a:off x="1650960" y="914400"/>
            <a:ext cx="3581280" cy="6669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ows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376360" y="914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2946240" y="5254560"/>
            <a:ext cx="1981440" cy="207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avaScrip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2108160" y="1542960"/>
            <a:ext cx="533520" cy="5727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O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4375080" y="7772400"/>
            <a:ext cx="2481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RRC/HTT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TextBox 27"/>
          <p:cNvSpPr/>
          <p:nvPr/>
        </p:nvSpPr>
        <p:spPr>
          <a:xfrm>
            <a:off x="11144880" y="7772400"/>
            <a:ext cx="11736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3556080" y="3522600"/>
            <a:ext cx="1676160" cy="878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ar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7632720" y="4811760"/>
            <a:ext cx="2392200" cy="2063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ssfun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10304640" y="4843440"/>
            <a:ext cx="533160" cy="1981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D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Can 27"/>
          <p:cNvSpPr/>
          <p:nvPr/>
        </p:nvSpPr>
        <p:spPr>
          <a:xfrm>
            <a:off x="8663040" y="1628640"/>
            <a:ext cx="685800" cy="685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Can 29"/>
          <p:cNvSpPr/>
          <p:nvPr/>
        </p:nvSpPr>
        <p:spPr>
          <a:xfrm>
            <a:off x="9501120" y="1628640"/>
            <a:ext cx="685800" cy="685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6f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Can 30"/>
          <p:cNvSpPr/>
          <p:nvPr/>
        </p:nvSpPr>
        <p:spPr>
          <a:xfrm>
            <a:off x="10339560" y="1628640"/>
            <a:ext cx="685800" cy="685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3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6519960" y="1592280"/>
            <a:ext cx="2292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ssions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3540240" y="2405160"/>
            <a:ext cx="1676160" cy="907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nd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quest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18" name="Picture 1" descr=""/>
          <p:cNvPicPr/>
          <p:nvPr/>
        </p:nvPicPr>
        <p:blipFill>
          <a:blip r:embed="rId4"/>
          <a:stretch/>
        </p:blipFill>
        <p:spPr>
          <a:xfrm>
            <a:off x="3570120" y="1244520"/>
            <a:ext cx="114624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In the Server - Sessions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509840" y="2674800"/>
            <a:ext cx="13237920" cy="527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6000"/>
          </a:bodyPr>
          <a:p>
            <a:pPr marL="754200" indent="-754200">
              <a:spcBef>
                <a:spcPts val="351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n most server applications, as soon as we meet a new (unmarked) browser we create a sessio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754200" indent="-754200">
              <a:spcBef>
                <a:spcPts val="351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e set a session cookie to be stored in the browser, which indicates the session id in use – gives this browser a unique “mark”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754200" indent="-754200">
              <a:spcBef>
                <a:spcPts val="351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creation and destruction of sessions is handled by a web framework or some utility code that we use in our application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Session Identifier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0000"/>
          </a:bodyPr>
          <a:p>
            <a:pPr marL="548280" indent="-5482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 large, random number that we place in a browser cookie the first time we encounter a brows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48280" indent="-5482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s number is used to pick from the many sessions that the server has active at any one time.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48280" indent="-5482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rver software stores data in the session that it wants to have from one request to another from the same browser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48280" indent="-5482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hopping cart or login information is stored in the session in the server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181480" y="372960"/>
            <a:ext cx="11042640" cy="83646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406440" y="1190520"/>
            <a:ext cx="4775040" cy="70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marL="457200" indent="-457200">
              <a:buClr>
                <a:srgbClr val="ffff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Open a fresh browser.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marL="457200" indent="-457200">
              <a:buClr>
                <a:srgbClr val="ffff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Turn on network tab of developer console.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marL="457200" indent="-457200">
              <a:buClr>
                <a:srgbClr val="ffff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Go to </a:t>
            </a:r>
            <a:r>
              <a:rPr b="0" lang="en-US" sz="3500" spc="-1" strike="noStrike">
                <a:solidFill>
                  <a:srgbClr val="ffff00"/>
                </a:solidFill>
                <a:latin typeface="Gill Sans"/>
              </a:rPr>
              <a:t>www.tsugi.org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marL="457200" indent="-457200">
              <a:buClr>
                <a:srgbClr val="ffff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Find the first page retrieved.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marL="457200" indent="-457200">
              <a:buClr>
                <a:srgbClr val="ffff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</a:rPr>
              <a:t>Look at the response headers and find set-cookie.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1576440" y="762120"/>
            <a:ext cx="13358880" cy="7586640"/>
            <a:chOff x="1576440" y="762120"/>
            <a:chExt cx="13358880" cy="7586640"/>
          </a:xfrm>
        </p:grpSpPr>
        <p:sp>
          <p:nvSpPr>
            <p:cNvPr id="226" name="Left-Right Arrow 1"/>
            <p:cNvSpPr/>
            <p:nvPr/>
          </p:nvSpPr>
          <p:spPr>
            <a:xfrm>
              <a:off x="1576440" y="891720"/>
              <a:ext cx="13099320" cy="843840"/>
            </a:xfrm>
            <a:prstGeom prst="leftRightArrow">
              <a:avLst>
                <a:gd name="adj1" fmla="val 50000"/>
                <a:gd name="adj2" fmla="val 5002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Space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1641240" y="4070520"/>
              <a:ext cx="13294080" cy="42782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Web Server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28" name="TextBox 4"/>
            <p:cNvSpPr/>
            <p:nvPr/>
          </p:nvSpPr>
          <p:spPr>
            <a:xfrm>
              <a:off x="7641360" y="79596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29" name="TextBox 14"/>
            <p:cNvSpPr/>
            <p:nvPr/>
          </p:nvSpPr>
          <p:spPr>
            <a:xfrm>
              <a:off x="7601760" y="173556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30" name="Rectangle 15"/>
            <p:cNvSpPr/>
            <p:nvPr/>
          </p:nvSpPr>
          <p:spPr>
            <a:xfrm>
              <a:off x="1770840" y="4781160"/>
              <a:ext cx="12904560" cy="15577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PHP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31" name="TextBox 16"/>
            <p:cNvSpPr/>
            <p:nvPr/>
          </p:nvSpPr>
          <p:spPr>
            <a:xfrm>
              <a:off x="7937640" y="37454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cxnSp>
          <p:nvCxnSpPr>
            <p:cNvPr id="232" name="Straight Arrow Connector 18"/>
            <p:cNvCxnSpPr/>
            <p:nvPr/>
          </p:nvCxnSpPr>
          <p:spPr>
            <a:xfrm>
              <a:off x="4689000" y="1928880"/>
              <a:ext cx="2854080" cy="51948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233" name="Straight Arrow Connector 26"/>
            <p:cNvCxnSpPr/>
            <p:nvPr/>
          </p:nvCxnSpPr>
          <p:spPr>
            <a:xfrm flipV="1">
              <a:off x="4429800" y="2512440"/>
              <a:ext cx="2270160" cy="13032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234" name="Rectangle 22"/>
            <p:cNvSpPr/>
            <p:nvPr/>
          </p:nvSpPr>
          <p:spPr>
            <a:xfrm>
              <a:off x="1576440" y="1995480"/>
              <a:ext cx="2852640" cy="1100160"/>
            </a:xfrm>
            <a:prstGeom prst="rect">
              <a:avLst/>
            </a:prstGeom>
            <a:solidFill>
              <a:srgbClr val="a3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Browser S=A123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35" name="TextBox 3"/>
            <p:cNvSpPr/>
            <p:nvPr/>
          </p:nvSpPr>
          <p:spPr>
            <a:xfrm>
              <a:off x="3407400" y="76212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36" name="Can 24"/>
            <p:cNvSpPr/>
            <p:nvPr/>
          </p:nvSpPr>
          <p:spPr>
            <a:xfrm>
              <a:off x="1965600" y="6663960"/>
              <a:ext cx="1369800" cy="1425240"/>
            </a:xfrm>
            <a:prstGeom prst="can">
              <a:avLst>
                <a:gd name="adj" fmla="val 24023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PHP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</a:rPr>
                <a:t>Code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237" name="Picture 1" descr=""/>
            <p:cNvPicPr/>
            <p:nvPr/>
          </p:nvPicPr>
          <p:blipFill>
            <a:blip r:embed="rId3"/>
            <a:stretch/>
          </p:blipFill>
          <p:spPr>
            <a:xfrm>
              <a:off x="8126280" y="3550320"/>
              <a:ext cx="54036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Can 27"/>
            <p:cNvSpPr/>
            <p:nvPr/>
          </p:nvSpPr>
          <p:spPr>
            <a:xfrm>
              <a:off x="4754520" y="6923520"/>
              <a:ext cx="1402560" cy="84096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A123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39" name="Can 29"/>
            <p:cNvSpPr/>
            <p:nvPr/>
          </p:nvSpPr>
          <p:spPr>
            <a:xfrm>
              <a:off x="6244920" y="6923520"/>
              <a:ext cx="1324440" cy="84096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B345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40" name="Can 30"/>
            <p:cNvSpPr/>
            <p:nvPr/>
          </p:nvSpPr>
          <p:spPr>
            <a:xfrm>
              <a:off x="13185360" y="6988320"/>
              <a:ext cx="1360440" cy="84096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C678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5533560" y="1995480"/>
              <a:ext cx="2850480" cy="1100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Browser S=B345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42" name="Rectangle 34"/>
            <p:cNvSpPr/>
            <p:nvPr/>
          </p:nvSpPr>
          <p:spPr>
            <a:xfrm>
              <a:off x="11692440" y="2057400"/>
              <a:ext cx="2853360" cy="1103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</a:rPr>
                <a:t>Browser S=C678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HTTP Cookies</a:t>
            </a:r>
            <a:endParaRPr b="0" lang="en-US" sz="7800" spc="-1" strike="noStrike">
              <a:solidFill>
                <a:srgbClr val="ffff00"/>
              </a:solidFill>
              <a:latin typeface="Gill Sans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1787120" y="5562720"/>
            <a:ext cx="369108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PHP Sessions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9840" y="2590560"/>
            <a:ext cx="13237920" cy="59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4000"/>
          </a:bodyPr>
          <a:p>
            <a:pPr marL="1038240" indent="-73980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e can establish / initialize a PHP session by calling </a:t>
            </a:r>
            <a:r>
              <a:rPr b="0" lang="en-US" sz="3800" spc="-1" strike="noStrike">
                <a:solidFill>
                  <a:srgbClr val="00ff00"/>
                </a:solidFill>
                <a:latin typeface="Gill Sans"/>
              </a:rPr>
              <a:t>session_start()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before any output has come out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038240" indent="-73980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If the user has cookies set, we can use the array </a:t>
            </a:r>
            <a:r>
              <a:rPr b="0" lang="en-US" sz="3800" spc="-1" strike="noStrike">
                <a:solidFill>
                  <a:srgbClr val="ffff00"/>
                </a:solidFill>
                <a:latin typeface="Gill Sans"/>
              </a:rPr>
              <a:t>$_SESSION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to store data from one request to the next with a particular browser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038240" indent="-73980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e have a bit of data that persists from one request to the next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038240" indent="-73980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By default, these are stored in a temporary folder on disk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"/>
          <p:cNvSpPr/>
          <p:nvPr/>
        </p:nvSpPr>
        <p:spPr>
          <a:xfrm>
            <a:off x="1476360" y="3959280"/>
            <a:ext cx="13290480" cy="42782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7402680" y="685800"/>
            <a:ext cx="328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1076400" y="72540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7362720" y="149544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2190600" y="4702320"/>
            <a:ext cx="2463840" cy="1557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$_SE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7699320" y="363528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51" name="Straight Arrow Connector 18"/>
          <p:cNvCxnSpPr/>
          <p:nvPr/>
        </p:nvCxnSpPr>
        <p:spPr>
          <a:xfrm>
            <a:off x="4524480" y="1690560"/>
            <a:ext cx="2851920" cy="519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2" name="Straight Arrow Connector 26"/>
          <p:cNvCxnSpPr/>
          <p:nvPr/>
        </p:nvCxnSpPr>
        <p:spPr>
          <a:xfrm flipV="1">
            <a:off x="4263840" y="2274120"/>
            <a:ext cx="2270520" cy="127800"/>
          </a:xfrm>
          <a:prstGeom prst="straightConnector1">
            <a:avLst/>
          </a:prstGeom>
          <a:ln w="0">
            <a:noFill/>
          </a:ln>
        </p:spPr>
      </p:cxnSp>
      <p:sp>
        <p:nvSpPr>
          <p:cNvPr id="253" name="Rectangle 22"/>
          <p:cNvSpPr/>
          <p:nvPr/>
        </p:nvSpPr>
        <p:spPr>
          <a:xfrm>
            <a:off x="2190600" y="1755720"/>
            <a:ext cx="2399040" cy="110016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S=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3170160" y="65232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Right Arrow 1"/>
          <p:cNvSpPr/>
          <p:nvPr/>
        </p:nvSpPr>
        <p:spPr>
          <a:xfrm>
            <a:off x="2384280" y="781200"/>
            <a:ext cx="12123720" cy="649080"/>
          </a:xfrm>
          <a:prstGeom prst="rightArrow">
            <a:avLst>
              <a:gd name="adj1" fmla="val 50000"/>
              <a:gd name="adj2" fmla="val 49982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Can 24"/>
          <p:cNvSpPr/>
          <p:nvPr/>
        </p:nvSpPr>
        <p:spPr>
          <a:xfrm>
            <a:off x="1800360" y="6553080"/>
            <a:ext cx="1231920" cy="1425600"/>
          </a:xfrm>
          <a:prstGeom prst="can">
            <a:avLst>
              <a:gd name="adj" fmla="val 21601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d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57" name="Picture 1" descr=""/>
          <p:cNvPicPr/>
          <p:nvPr/>
        </p:nvPicPr>
        <p:blipFill>
          <a:blip r:embed="rId3"/>
          <a:stretch/>
        </p:blipFill>
        <p:spPr>
          <a:xfrm>
            <a:off x="7699320" y="3127320"/>
            <a:ext cx="844560" cy="638280"/>
          </a:xfrm>
          <a:prstGeom prst="rect">
            <a:avLst/>
          </a:prstGeom>
          <a:ln w="0">
            <a:noFill/>
          </a:ln>
        </p:spPr>
      </p:pic>
      <p:sp>
        <p:nvSpPr>
          <p:cNvPr id="258" name="Can 27"/>
          <p:cNvSpPr/>
          <p:nvPr/>
        </p:nvSpPr>
        <p:spPr>
          <a:xfrm>
            <a:off x="7699320" y="7281720"/>
            <a:ext cx="1233720" cy="8431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123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5181480" y="4702320"/>
            <a:ext cx="2463840" cy="1557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$_GE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$_SE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8174160" y="4702320"/>
            <a:ext cx="2463840" cy="1557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$_SE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2107880" y="4702320"/>
            <a:ext cx="2465280" cy="1557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$_POS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$_SE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11046240" y="4865760"/>
            <a:ext cx="6552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Rectangle 28"/>
          <p:cNvSpPr/>
          <p:nvPr/>
        </p:nvSpPr>
        <p:spPr>
          <a:xfrm>
            <a:off x="5235480" y="1755720"/>
            <a:ext cx="2398680" cy="110016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S=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Rectangle 31"/>
          <p:cNvSpPr/>
          <p:nvPr/>
        </p:nvSpPr>
        <p:spPr>
          <a:xfrm>
            <a:off x="8218440" y="1755720"/>
            <a:ext cx="2400480" cy="110016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S=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Rectangle 32"/>
          <p:cNvSpPr/>
          <p:nvPr/>
        </p:nvSpPr>
        <p:spPr>
          <a:xfrm>
            <a:off x="12107880" y="1755720"/>
            <a:ext cx="2400120" cy="110016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rowser S=C12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266" name="Straight Arrow Connector 4"/>
          <p:cNvCxnSpPr>
            <a:stCxn id="253" idx="2"/>
            <a:endCxn id="249" idx="0"/>
          </p:cNvCxnSpPr>
          <p:nvPr/>
        </p:nvCxnSpPr>
        <p:spPr>
          <a:xfrm>
            <a:off x="3389400" y="2855520"/>
            <a:ext cx="32400" cy="18471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67" name="Straight Arrow Connector 35"/>
          <p:cNvCxnSpPr>
            <a:stCxn id="263" idx="2"/>
            <a:endCxn id="259" idx="0"/>
          </p:cNvCxnSpPr>
          <p:nvPr/>
        </p:nvCxnSpPr>
        <p:spPr>
          <a:xfrm flipH="1">
            <a:off x="6413040" y="2855520"/>
            <a:ext cx="23040" cy="18471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68" name="Straight Arrow Connector 36"/>
          <p:cNvCxnSpPr>
            <a:stCxn id="264" idx="2"/>
            <a:endCxn id="260" idx="0"/>
          </p:cNvCxnSpPr>
          <p:nvPr/>
        </p:nvCxnSpPr>
        <p:spPr>
          <a:xfrm flipH="1">
            <a:off x="9403920" y="2855520"/>
            <a:ext cx="15120" cy="18471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69" name="Straight Arrow Connector 37"/>
          <p:cNvCxnSpPr>
            <a:stCxn id="265" idx="2"/>
            <a:endCxn id="261" idx="0"/>
          </p:cNvCxnSpPr>
          <p:nvPr/>
        </p:nvCxnSpPr>
        <p:spPr>
          <a:xfrm>
            <a:off x="13308120" y="2855520"/>
            <a:ext cx="33840" cy="18471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0" name="Straight Arrow Connector 39"/>
          <p:cNvCxnSpPr>
            <a:stCxn id="249" idx="2"/>
            <a:endCxn id="258" idx="1"/>
          </p:cNvCxnSpPr>
          <p:nvPr/>
        </p:nvCxnSpPr>
        <p:spPr>
          <a:xfrm>
            <a:off x="3423960" y="6259320"/>
            <a:ext cx="4894920" cy="10227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Straight Arrow Connector 42"/>
          <p:cNvCxnSpPr>
            <a:stCxn id="259" idx="2"/>
            <a:endCxn id="258" idx="1"/>
          </p:cNvCxnSpPr>
          <p:nvPr/>
        </p:nvCxnSpPr>
        <p:spPr>
          <a:xfrm>
            <a:off x="6414840" y="6259320"/>
            <a:ext cx="1904040" cy="10227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Straight Arrow Connector 46"/>
          <p:cNvCxnSpPr>
            <a:stCxn id="260" idx="2"/>
            <a:endCxn id="258" idx="1"/>
          </p:cNvCxnSpPr>
          <p:nvPr/>
        </p:nvCxnSpPr>
        <p:spPr>
          <a:xfrm flipH="1">
            <a:off x="8317800" y="6259320"/>
            <a:ext cx="1089720" cy="10227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Straight Arrow Connector 49"/>
          <p:cNvCxnSpPr>
            <a:stCxn id="261" idx="2"/>
            <a:endCxn id="258" idx="1"/>
          </p:cNvCxnSpPr>
          <p:nvPr/>
        </p:nvCxnSpPr>
        <p:spPr>
          <a:xfrm flipH="1">
            <a:off x="8318520" y="6259320"/>
            <a:ext cx="5023080" cy="10227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4" name="Rectangle 2"/>
          <p:cNvSpPr/>
          <p:nvPr/>
        </p:nvSpPr>
        <p:spPr>
          <a:xfrm>
            <a:off x="2255760" y="5708520"/>
            <a:ext cx="12122280" cy="5209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PHPInfo – session.save_path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pic>
        <p:nvPicPr>
          <p:cNvPr id="276" name="Picture 3" descr="Untitled.png"/>
          <p:cNvPicPr/>
          <p:nvPr/>
        </p:nvPicPr>
        <p:blipFill>
          <a:blip r:embed="rId1"/>
          <a:srcRect l="2105" t="0" r="1188" b="0"/>
          <a:stretch/>
        </p:blipFill>
        <p:spPr>
          <a:xfrm>
            <a:off x="890640" y="2971800"/>
            <a:ext cx="1452096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Untitled.png"/>
          <p:cNvPicPr/>
          <p:nvPr/>
        </p:nvPicPr>
        <p:blipFill>
          <a:blip r:embed="rId1"/>
          <a:stretch/>
        </p:blipFill>
        <p:spPr>
          <a:xfrm>
            <a:off x="812880" y="787320"/>
            <a:ext cx="10136160" cy="6222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Untitled.png"/>
          <p:cNvPicPr/>
          <p:nvPr/>
        </p:nvPicPr>
        <p:blipFill>
          <a:blip r:embed="rId2"/>
          <a:stretch/>
        </p:blipFill>
        <p:spPr>
          <a:xfrm>
            <a:off x="6908760" y="1998720"/>
            <a:ext cx="8674200" cy="58053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5"/>
          <p:cNvSpPr/>
          <p:nvPr/>
        </p:nvSpPr>
        <p:spPr>
          <a:xfrm>
            <a:off x="138960" y="7823160"/>
            <a:ext cx="9409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(On a Mac)   /Applications/MAMP/tmp/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6654960" y="7963560"/>
            <a:ext cx="878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php.net/manual/en/function.session-start.ph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652760" y="1066680"/>
            <a:ext cx="1314900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1490760" y="947880"/>
            <a:ext cx="13979520" cy="59245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2"/>
          <p:cNvSpPr/>
          <p:nvPr/>
        </p:nvSpPr>
        <p:spPr>
          <a:xfrm>
            <a:off x="6888960" y="7168320"/>
            <a:ext cx="926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php.net/manual/en/function.session-destroy.ph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662040" y="762120"/>
            <a:ext cx="12953880" cy="78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// Note - cannot have any output before this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ession_start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! isset(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_SESSION['pizza']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) )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&lt;p&gt;Session is empty&lt;/p&gt;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_SESSION['pizza']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= 0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 else if (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_SESSION['pizza']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 3 )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_SESSION['pizza'] = $_SESSION['pizza']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+ 1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&lt;p&gt;Added one...&lt;/p&gt;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 else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ession_destroy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ession_start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&lt;p&gt;Session Restarted&lt;/p&gt;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&lt;a href="sessfun.php"&gt;</a:t>
            </a:r>
            <a:r>
              <a:rPr b="0" lang="en-US" sz="25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Click Me!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a&gt;&lt;/p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Our Session ID is: &lt;?php echo(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ession_id()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); ?&gt;&lt;/p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re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 print_r(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_SESSION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); 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pre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8160480" y="8235000"/>
            <a:ext cx="830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www.wa4e.com/code/sessions/sessfun.ph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406440" y="7525800"/>
            <a:ext cx="8535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www.wa4e.com/code/sessions/sessfun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5111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2281320" y="1074600"/>
            <a:ext cx="7580160" cy="5112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3"/>
          <a:stretch/>
        </p:blipFill>
        <p:spPr>
          <a:xfrm>
            <a:off x="4502160" y="2049480"/>
            <a:ext cx="7578720" cy="5110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4"/>
          <a:stretch/>
        </p:blipFill>
        <p:spPr>
          <a:xfrm>
            <a:off x="6719760" y="3022560"/>
            <a:ext cx="7581960" cy="5111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5"/>
          <a:stretch/>
        </p:blipFill>
        <p:spPr>
          <a:xfrm>
            <a:off x="8942400" y="3995640"/>
            <a:ext cx="7580160" cy="51120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406440" y="7525800"/>
            <a:ext cx="8535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www.wa4e.com/code/sessions/sessfun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4160" y="1538280"/>
            <a:ext cx="13934880" cy="3084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Sessions Without Cookies</a:t>
            </a:r>
            <a:endParaRPr b="0" lang="en-US" sz="7800" spc="-1" strike="noStrike">
              <a:solidFill>
                <a:srgbClr val="ffff00"/>
              </a:solidFill>
              <a:latin typeface="Gill Sans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2057120" y="5853240"/>
            <a:ext cx="2709720" cy="1882800"/>
          </a:xfrm>
          <a:prstGeom prst="rect">
            <a:avLst/>
          </a:prstGeom>
          <a:ln w="0">
            <a:noFill/>
          </a:ln>
        </p:spPr>
      </p:pic>
      <p:sp>
        <p:nvSpPr>
          <p:cNvPr id="296" name="&quot;No&quot; Symbol 6"/>
          <p:cNvSpPr/>
          <p:nvPr/>
        </p:nvSpPr>
        <p:spPr>
          <a:xfrm>
            <a:off x="11515680" y="5249880"/>
            <a:ext cx="3809880" cy="2994120"/>
          </a:xfrm>
          <a:custGeom>
            <a:avLst/>
            <a:gdLst/>
            <a:ahLst/>
            <a:rect l="l" t="t" r="r" b="b"/>
            <a:pathLst>
              <a:path w="3810000" h="2994025">
                <a:moveTo>
                  <a:pt x="0" y="1497013"/>
                </a:moveTo>
                <a:cubicBezTo>
                  <a:pt x="0" y="670236"/>
                  <a:pt x="852898" y="0"/>
                  <a:pt x="1905000" y="0"/>
                </a:cubicBezTo>
                <a:cubicBezTo>
                  <a:pt x="2957102" y="0"/>
                  <a:pt x="3810000" y="670236"/>
                  <a:pt x="3810000" y="1497013"/>
                </a:cubicBezTo>
                <a:cubicBezTo>
                  <a:pt x="3810000" y="2323790"/>
                  <a:pt x="2957102" y="2994026"/>
                  <a:pt x="1905000" y="2994026"/>
                </a:cubicBezTo>
                <a:cubicBezTo>
                  <a:pt x="852898" y="2994026"/>
                  <a:pt x="0" y="2323790"/>
                  <a:pt x="0" y="1497013"/>
                </a:cubicBezTo>
                <a:close/>
                <a:moveTo>
                  <a:pt x="3144996" y="2294786"/>
                </a:moveTo>
                <a:cubicBezTo>
                  <a:pt x="3806834" y="1715771"/>
                  <a:pt x="3610420" y="828695"/>
                  <a:pt x="2734604" y="441312"/>
                </a:cubicBezTo>
                <a:cubicBezTo>
                  <a:pt x="2153945" y="184480"/>
                  <a:pt x="1422639" y="221606"/>
                  <a:pt x="893391" y="534783"/>
                </a:cubicBezTo>
                <a:lnTo>
                  <a:pt x="3144996" y="2294786"/>
                </a:lnTo>
                <a:close/>
                <a:moveTo>
                  <a:pt x="665004" y="699239"/>
                </a:moveTo>
                <a:cubicBezTo>
                  <a:pt x="3166" y="1278254"/>
                  <a:pt x="199580" y="2165330"/>
                  <a:pt x="1075396" y="2552713"/>
                </a:cubicBezTo>
                <a:cubicBezTo>
                  <a:pt x="1656055" y="2809545"/>
                  <a:pt x="2387361" y="2772419"/>
                  <a:pt x="2916609" y="2459242"/>
                </a:cubicBezTo>
                <a:lnTo>
                  <a:pt x="665004" y="6992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360" rIns="162360" tIns="81000" bIns="81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"/>
          <p:cNvSpPr/>
          <p:nvPr/>
        </p:nvSpPr>
        <p:spPr>
          <a:xfrm>
            <a:off x="6299280" y="914400"/>
            <a:ext cx="5030640" cy="6669000"/>
          </a:xfrm>
          <a:prstGeom prst="rect">
            <a:avLst/>
          </a:prstGeom>
          <a:solidFill>
            <a:srgbClr val="54b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2244320" y="925560"/>
            <a:ext cx="4013280" cy="66578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350120" y="947880"/>
            <a:ext cx="328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2144240" y="914400"/>
            <a:ext cx="34624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tabase Serv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480" y="728640"/>
            <a:ext cx="1383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Down Arrow 7"/>
          <p:cNvSpPr/>
          <p:nvPr/>
        </p:nvSpPr>
        <p:spPr>
          <a:xfrm>
            <a:off x="431640" y="1542960"/>
            <a:ext cx="533520" cy="6734160"/>
          </a:xfrm>
          <a:prstGeom prst="downArrow">
            <a:avLst>
              <a:gd name="adj1" fmla="val 50000"/>
              <a:gd name="adj2" fmla="val 4996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5460840" y="4438800"/>
            <a:ext cx="635040" cy="3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3"/>
          <a:stretch/>
        </p:blipFill>
        <p:spPr>
          <a:xfrm>
            <a:off x="11482560" y="4502160"/>
            <a:ext cx="634680" cy="393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6680160" y="2673360"/>
            <a:ext cx="4479840" cy="4721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7365960" y="3905280"/>
            <a:ext cx="3619440" cy="3238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7699320" y="380988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12701520" y="2111400"/>
            <a:ext cx="320040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y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Can 21"/>
          <p:cNvSpPr/>
          <p:nvPr/>
        </p:nvSpPr>
        <p:spPr>
          <a:xfrm>
            <a:off x="13311360" y="6262560"/>
            <a:ext cx="2209680" cy="1008360"/>
          </a:xfrm>
          <a:prstGeom prst="can">
            <a:avLst>
              <a:gd name="adj" fmla="val 50000"/>
            </a:avLst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115" name="Straight Arrow Connector 18"/>
          <p:cNvCxnSpPr/>
          <p:nvPr/>
        </p:nvCxnSpPr>
        <p:spPr>
          <a:xfrm>
            <a:off x="3936600" y="2046240"/>
            <a:ext cx="3353400" cy="505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6" name="Straight Arrow Connector 26"/>
          <p:cNvCxnSpPr/>
          <p:nvPr/>
        </p:nvCxnSpPr>
        <p:spPr>
          <a:xfrm flipV="1">
            <a:off x="3631680" y="2612160"/>
            <a:ext cx="2667960" cy="127800"/>
          </a:xfrm>
          <a:prstGeom prst="straightConnector1">
            <a:avLst/>
          </a:prstGeom>
          <a:ln w="0">
            <a:noFill/>
          </a:ln>
        </p:spPr>
      </p:cxnSp>
      <p:sp>
        <p:nvSpPr>
          <p:cNvPr id="117" name="Rectangle 22"/>
          <p:cNvSpPr/>
          <p:nvPr/>
        </p:nvSpPr>
        <p:spPr>
          <a:xfrm>
            <a:off x="1650960" y="914400"/>
            <a:ext cx="3581280" cy="6669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ows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376360" y="914400"/>
            <a:ext cx="3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2946240" y="5254560"/>
            <a:ext cx="1981440" cy="207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avaScrip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2108160" y="1542960"/>
            <a:ext cx="601560" cy="5727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O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4375080" y="7772400"/>
            <a:ext cx="2481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RRC/HTT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TextBox 27"/>
          <p:cNvSpPr/>
          <p:nvPr/>
        </p:nvSpPr>
        <p:spPr>
          <a:xfrm>
            <a:off x="11144880" y="7772400"/>
            <a:ext cx="11736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Gill Sans"/>
              </a:rPr>
              <a:t>SQ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3556080" y="3522600"/>
            <a:ext cx="1676160" cy="8780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ar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7678800" y="4811760"/>
            <a:ext cx="2346120" cy="2063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ssfun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0296360" y="4843440"/>
            <a:ext cx="541440" cy="1981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D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3540240" y="2405160"/>
            <a:ext cx="1676160" cy="907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nd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quest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4"/>
          <a:stretch/>
        </p:blipFill>
        <p:spPr>
          <a:xfrm>
            <a:off x="3570120" y="1244520"/>
            <a:ext cx="114624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PHP Sessions Without Cookies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09840" y="2674800"/>
            <a:ext cx="13237920" cy="527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 fontScale="95000"/>
          </a:bodyPr>
          <a:p>
            <a:pPr marL="1001160" indent="-7477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For a simple application handling login, logout, and shopping cart-like information, cookie sessions are sufficient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001160" indent="-7477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But if an application needs to function within an iframe, or have more than one session active (i.e., multiple tabs to the same site), we cannot use session cookies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001160" indent="-7477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PHP has nice support for maintaining a session without a cookie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" descr=""/>
          <p:cNvPicPr/>
          <p:nvPr/>
        </p:nvPicPr>
        <p:blipFill>
          <a:blip r:embed="rId1"/>
          <a:stretch/>
        </p:blipFill>
        <p:spPr>
          <a:xfrm>
            <a:off x="966960" y="457200"/>
            <a:ext cx="9867600" cy="84326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12083040" y="7470360"/>
            <a:ext cx="36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nocookie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377280" y="1114560"/>
            <a:ext cx="9012960" cy="38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2000" spc="-1" strike="noStrike">
                <a:solidFill>
                  <a:srgbClr val="878699"/>
                </a:solidFill>
                <a:latin typeface="Courier New"/>
              </a:rPr>
              <a:t>// Tell PHP we won't be using cookies for the sess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dd495d"/>
                </a:solidFill>
                <a:latin typeface="Courier-Bold"/>
              </a:rPr>
              <a:t>ini_se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</a:rPr>
              <a:t>'session.use_cookies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</a:rPr>
              <a:t>'0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dd495d"/>
                </a:solidFill>
                <a:latin typeface="Courier-Bold"/>
              </a:rPr>
              <a:t>ini_se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</a:rPr>
              <a:t>'session.use_only_cookies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107d02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dd495d"/>
                </a:solidFill>
                <a:latin typeface="Courier-Bold"/>
              </a:rPr>
              <a:t>ini_se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18b9b7"/>
                </a:solidFill>
                <a:latin typeface="Courier New"/>
              </a:rPr>
              <a:t>'session.use_trans_sid'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107d02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dd495d"/>
                </a:solidFill>
                <a:latin typeface="Courier-Bold"/>
              </a:rPr>
              <a:t>session_start</a:t>
            </a:r>
            <a:r>
              <a:rPr b="0" lang="en-US" sz="2000" spc="-1" strike="noStrike">
                <a:solidFill>
                  <a:srgbClr val="c8c473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699"/>
                </a:solidFill>
                <a:latin typeface="Courier New"/>
              </a:rPr>
              <a:t>// Start the view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1" lang="en-US" sz="2000" spc="-1" strike="noStrike">
                <a:solidFill>
                  <a:srgbClr val="dd495d"/>
                </a:solidFill>
                <a:latin typeface="Courier-Bold"/>
              </a:rPr>
              <a:t>b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c7c7c7"/>
                </a:solidFill>
                <a:latin typeface="Courier New"/>
              </a:rPr>
              <a:t>No Cookies for You!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dd495d"/>
                </a:solidFill>
                <a:latin typeface="Courier-Bold"/>
              </a:rPr>
              <a:t>b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1" lang="en-US" sz="2000" spc="-1" strike="noStrike">
                <a:solidFill>
                  <a:srgbClr val="dd495d"/>
                </a:solidFill>
                <a:latin typeface="Courier-Bold"/>
              </a:rPr>
              <a:t>p</a:t>
            </a:r>
            <a:r>
              <a:rPr b="0" lang="en-US" sz="20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2387960" y="840960"/>
            <a:ext cx="36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Gill Sans"/>
                <a:ea typeface="ＭＳ Ｐゴシック"/>
              </a:rPr>
              <a:t>nocookie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2387960" y="840960"/>
            <a:ext cx="36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Gill Sans"/>
                <a:ea typeface="ＭＳ Ｐゴシック"/>
              </a:rPr>
              <a:t>nocookie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716760" y="914400"/>
            <a:ext cx="14834880" cy="74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No Cookies for You!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b2c5"/>
                </a:solidFill>
                <a:latin typeface="Courier New"/>
              </a:rPr>
              <a:t>&lt;?ph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de-DE" sz="2800" spc="-1" strike="noStrike">
                <a:solidFill>
                  <a:srgbClr val="dd495d"/>
                </a:solidFill>
                <a:latin typeface="Courier New"/>
              </a:rPr>
              <a:t>if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!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dd495d"/>
                </a:solidFill>
                <a:latin typeface="Courier New"/>
              </a:rPr>
              <a:t>isset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2800" spc="-1" strike="noStrike">
                <a:solidFill>
                  <a:srgbClr val="18b9b7"/>
                </a:solidFill>
                <a:latin typeface="Courier New"/>
              </a:rPr>
              <a:t>'value'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])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de-DE" sz="2800" spc="-1" strike="noStrike">
                <a:solidFill>
                  <a:srgbClr val="dd495d"/>
                </a:solidFill>
                <a:latin typeface="Courier New"/>
              </a:rPr>
              <a:t>echo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2800" spc="-1" strike="noStrike">
                <a:solidFill>
                  <a:srgbClr val="18b9b7"/>
                </a:solidFill>
                <a:latin typeface="Courier New"/>
              </a:rPr>
              <a:t>"&lt;p&gt;Session is empty&lt;/p&gt;</a:t>
            </a:r>
            <a:r>
              <a:rPr b="0" lang="de-DE" sz="2800" spc="-1" strike="noStrike">
                <a:solidFill>
                  <a:srgbClr val="0e6e6d"/>
                </a:solidFill>
                <a:latin typeface="Courier New"/>
              </a:rPr>
              <a:t>\n</a:t>
            </a:r>
            <a:r>
              <a:rPr b="0" lang="de-DE" sz="28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de-DE" sz="2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is-IS" sz="28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is-IS" sz="2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is-IS" sz="2800" spc="-1" strike="noStrike">
                <a:solidFill>
                  <a:srgbClr val="18b9b7"/>
                </a:solidFill>
                <a:latin typeface="Courier New"/>
              </a:rPr>
              <a:t>'value'</a:t>
            </a:r>
            <a:r>
              <a:rPr b="0" lang="is-IS" sz="28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is-I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is-IS" sz="2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is-I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is-IS" sz="2800" spc="-1" strike="noStrike">
                <a:solidFill>
                  <a:srgbClr val="107d02"/>
                </a:solidFill>
                <a:latin typeface="Courier New"/>
              </a:rPr>
              <a:t>0</a:t>
            </a:r>
            <a:r>
              <a:rPr b="0" lang="is-IS" sz="2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_SESSION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'value'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107d02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2800" spc="-1" strike="noStrike">
                <a:solidFill>
                  <a:srgbClr val="18b9b7"/>
                </a:solidFill>
                <a:latin typeface="Courier New"/>
              </a:rPr>
              <a:t>'value'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$_SESSION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2800" spc="-1" strike="noStrike">
                <a:solidFill>
                  <a:srgbClr val="18b9b7"/>
                </a:solidFill>
                <a:latin typeface="Courier New"/>
              </a:rPr>
              <a:t>'value'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]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+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107d02"/>
                </a:solidFill>
                <a:latin typeface="Courier New"/>
              </a:rPr>
              <a:t>1</a:t>
            </a:r>
            <a:r>
              <a:rPr b="0" lang="de-DE" sz="2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        </a:t>
            </a:r>
            <a:r>
              <a:rPr b="0" lang="de-DE" sz="2800" spc="-1" strike="noStrike">
                <a:solidFill>
                  <a:srgbClr val="dd495d"/>
                </a:solidFill>
                <a:latin typeface="Courier New"/>
              </a:rPr>
              <a:t>echo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de-DE" sz="2800" spc="-1" strike="noStrike">
                <a:solidFill>
                  <a:srgbClr val="18b9b7"/>
                </a:solidFill>
                <a:latin typeface="Courier New"/>
              </a:rPr>
              <a:t>"&lt;p&gt;Added one </a:t>
            </a:r>
            <a:r>
              <a:rPr b="0" lang="de-DE" sz="2800" spc="-1" strike="noStrike">
                <a:solidFill>
                  <a:srgbClr val="0e6e6d"/>
                </a:solidFill>
                <a:latin typeface="Courier New"/>
              </a:rPr>
              <a:t>\$</a:t>
            </a:r>
            <a:r>
              <a:rPr b="0" lang="de-DE" sz="2800" spc="-1" strike="noStrike">
                <a:solidFill>
                  <a:srgbClr val="18b9b7"/>
                </a:solidFill>
                <a:latin typeface="Courier New"/>
              </a:rPr>
              <a:t>_SESSION['value']="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.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[</a:t>
            </a:r>
            <a:r>
              <a:rPr b="0" lang="de-DE" sz="2800" spc="-1" strike="noStrike">
                <a:solidFill>
                  <a:srgbClr val="18b9b7"/>
                </a:solidFill>
                <a:latin typeface="Courier New"/>
              </a:rPr>
              <a:t>'value'</a:t>
            </a:r>
            <a:r>
              <a:rPr b="0" lang="de-DE" sz="2800" spc="-1" strike="noStrike">
                <a:solidFill>
                  <a:srgbClr val="c8c473"/>
                </a:solidFill>
                <a:latin typeface="Courier New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&lt;/p&gt;</a:t>
            </a:r>
            <a:r>
              <a:rPr b="0" lang="en-US" sz="2800" spc="-1" strike="noStrike">
                <a:solidFill>
                  <a:srgbClr val="0e6e6d"/>
                </a:solidFill>
                <a:latin typeface="Courier New"/>
              </a:rPr>
              <a:t>\n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hu-HU" sz="2800" spc="-1" strike="noStrike">
                <a:solidFill>
                  <a:srgbClr val="9f47a0"/>
                </a:solidFill>
                <a:latin typeface="Courier New"/>
              </a:rPr>
              <a:t>}</a:t>
            </a:r>
            <a:r>
              <a:rPr b="0" lang="hu-HU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hu-HU" sz="2800" spc="-1" strike="noStrike">
                <a:solidFill>
                  <a:srgbClr val="dd495d"/>
                </a:solidFill>
                <a:latin typeface="Courier New"/>
              </a:rPr>
              <a:t>else</a:t>
            </a:r>
            <a:r>
              <a:rPr b="0" lang="hu-HU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hu-HU" sz="2800" spc="-1" strike="noStrike">
                <a:solidFill>
                  <a:srgbClr val="9f47a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       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session_destroy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()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ffffff"/>
                </a:solidFill>
                <a:latin typeface="Courier New"/>
              </a:rPr>
              <a:t>       </a:t>
            </a:r>
            <a:r>
              <a:rPr b="0" lang="is-IS" sz="2800" spc="-1" strike="noStrike">
                <a:solidFill>
                  <a:srgbClr val="dd495d"/>
                </a:solidFill>
                <a:latin typeface="Courier New"/>
              </a:rPr>
              <a:t>session_start</a:t>
            </a:r>
            <a:r>
              <a:rPr b="0" lang="is-IS" sz="2800" spc="-1" strike="noStrike">
                <a:solidFill>
                  <a:srgbClr val="c8c473"/>
                </a:solidFill>
                <a:latin typeface="Courier New"/>
              </a:rPr>
              <a:t>()</a:t>
            </a:r>
            <a:r>
              <a:rPr b="0" lang="is-IS" sz="2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       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echo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&lt;p&gt;Session Restarted&lt;/p&gt;</a:t>
            </a:r>
            <a:r>
              <a:rPr b="0" lang="en-US" sz="2800" spc="-1" strike="noStrike">
                <a:solidFill>
                  <a:srgbClr val="0e6e6d"/>
                </a:solidFill>
                <a:latin typeface="Courier New"/>
              </a:rPr>
              <a:t>\n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ffffff"/>
                </a:solidFill>
                <a:latin typeface="Courier New"/>
              </a:rPr>
              <a:t>    </a:t>
            </a:r>
            <a:r>
              <a:rPr b="0" lang="is-IS" sz="2800" spc="-1" strike="noStrike">
                <a:solidFill>
                  <a:srgbClr val="9f47a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 href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nocookie.php"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Click This Anchor Tag!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719280" y="1862280"/>
            <a:ext cx="152614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?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 href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nocookie.php"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Click This Anchor Tag!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hr-HR" sz="28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hr-HR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form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 action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nocookie.php"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 method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post"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 type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submit"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 name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click"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 value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18b9b7"/>
                </a:solidFill>
                <a:latin typeface="Courier New"/>
              </a:rPr>
              <a:t>"Click This Submit Button!"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form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c7c7c7"/>
                </a:solidFill>
                <a:latin typeface="Courier New"/>
              </a:rPr>
              <a:t>Our Session ID is: </a:t>
            </a:r>
            <a:r>
              <a:rPr b="0" lang="en-US" sz="2800" spc="-1" strike="noStrike">
                <a:solidFill>
                  <a:srgbClr val="f2b2c5"/>
                </a:solidFill>
                <a:latin typeface="Courier New"/>
              </a:rPr>
              <a:t>&lt;?php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echo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session_id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())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2b2c5"/>
                </a:solidFill>
                <a:latin typeface="Courier New"/>
              </a:rPr>
              <a:t>?&gt;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c740c"/>
                </a:solidFill>
                <a:latin typeface="Courier New"/>
              </a:rPr>
              <a:t>&lt;</a:t>
            </a:r>
            <a:r>
              <a:rPr b="0" lang="hr-HR" sz="2800" spc="-1" strike="noStrike">
                <a:solidFill>
                  <a:srgbClr val="dd495d"/>
                </a:solidFill>
                <a:latin typeface="Courier New"/>
              </a:rPr>
              <a:t>pre</a:t>
            </a:r>
            <a:r>
              <a:rPr b="0" lang="hr-HR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b2c5"/>
                </a:solidFill>
                <a:latin typeface="Courier New"/>
              </a:rPr>
              <a:t>&lt;?php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rint_r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_SESSION</a:t>
            </a:r>
            <a:r>
              <a:rPr b="0" lang="en-US" sz="2800" spc="-1" strike="noStrike">
                <a:solidFill>
                  <a:srgbClr val="c8c473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9f47a0"/>
                </a:solidFill>
                <a:latin typeface="Courier New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2b2c5"/>
                </a:solidFill>
                <a:latin typeface="Courier New"/>
              </a:rPr>
              <a:t>?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lt;/</a:t>
            </a:r>
            <a:r>
              <a:rPr b="0" lang="en-US" sz="2800" spc="-1" strike="noStrike">
                <a:solidFill>
                  <a:srgbClr val="dd495d"/>
                </a:solidFill>
                <a:latin typeface="Courier New"/>
              </a:rPr>
              <a:t>pre</a:t>
            </a:r>
            <a:r>
              <a:rPr b="0" lang="en-US" sz="2800" spc="-1" strike="noStrike">
                <a:solidFill>
                  <a:srgbClr val="fc740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2387960" y="840960"/>
            <a:ext cx="36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Gill Sans"/>
                <a:ea typeface="ＭＳ Ｐゴシック"/>
              </a:rPr>
              <a:t>nocookie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-176040" y="363600"/>
            <a:ext cx="9880560" cy="844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-176040" y="363600"/>
            <a:ext cx="9880560" cy="8445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3335400" y="731880"/>
            <a:ext cx="9867960" cy="84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-176040" y="363600"/>
            <a:ext cx="9880560" cy="8445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3335400" y="731880"/>
            <a:ext cx="9867960" cy="8432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3"/>
          <a:stretch/>
        </p:blipFill>
        <p:spPr>
          <a:xfrm>
            <a:off x="6846840" y="838080"/>
            <a:ext cx="9867960" cy="843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A Whole Host of Issues...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490760" y="2945880"/>
            <a:ext cx="13236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05408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Session id is </a:t>
            </a:r>
            <a:r>
              <a:rPr b="0" lang="en-US" sz="3800" spc="-1" strike="noStrike">
                <a:solidFill>
                  <a:srgbClr val="ff00ff"/>
                </a:solidFill>
                <a:latin typeface="Gill Sans"/>
              </a:rPr>
              <a:t>not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automatically added in JavaScript, Ajax, Redirect, or other elements of HTML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05408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ith the session id on the URL, folks can email URLs or even bookmark them and be logged in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1054080" indent="-7873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e will come back to these..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Summary</a:t>
            </a:r>
            <a:endParaRPr b="0" lang="en-US" sz="78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09840" y="2946240"/>
            <a:ext cx="13237920" cy="500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103400" indent="-78732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ill Sans"/>
              </a:rPr>
              <a:t>HTTP Cookies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  <a:p>
            <a:pPr marL="1103400" indent="-78732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ill Sans"/>
              </a:rPr>
              <a:t>Sessions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  <a:p>
            <a:pPr marL="1103400" indent="-78732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ill Sans"/>
              </a:rPr>
              <a:t>Using Sessions in PHP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Multi-User / Multi-Browser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09840" y="2946240"/>
            <a:ext cx="13237920" cy="500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785880" indent="-7858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hen a server is interacting with many different browsers at the same time, the server needs to know *which* browser a particular request came from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785880" indent="-7858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Request  / Response initially was stateless - all browsers looked identical . This was really bad and did not last very long at all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9840" y="707760"/>
            <a:ext cx="1323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Gill Sans"/>
              </a:rPr>
              <a:t>Acknowledgements / Contributions</a:t>
            </a:r>
            <a:endParaRPr b="0" lang="en-US" sz="4800" spc="-1" strike="noStrike">
              <a:solidFill>
                <a:srgbClr val="ffff00"/>
              </a:solidFill>
              <a:latin typeface="Gill Sans"/>
            </a:endParaRPr>
          </a:p>
        </p:txBody>
      </p:sp>
      <p:pic>
        <p:nvPicPr>
          <p:cNvPr id="318" name="Picture 6" descr="CCby.png"/>
          <p:cNvPicPr/>
          <p:nvPr/>
        </p:nvPicPr>
        <p:blipFill>
          <a:blip r:embed="rId1"/>
          <a:stretch/>
        </p:blipFill>
        <p:spPr>
          <a:xfrm>
            <a:off x="13997160" y="849240"/>
            <a:ext cx="1969920" cy="6685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431640" y="1916280"/>
            <a:ext cx="7162920" cy="62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ese slides are Copyright 2010-  Charles R. Severance (www.dr-chuck.com) as part of www.wa4e.com and made available under a Creative Commons Attribution 4.0 License.  Please maintain this slide in all copies of the document to comply with the attribution requirements of the license.  If you make a change, feel free to add your name and organization to the list of contributors on this page as you republish the materials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itial Development: Charles Severance, University of Michigan School of Inform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Gill Sans"/>
              </a:rPr>
              <a:t>Insert new Contributors and Translators here including names and d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8434440" y="1911240"/>
            <a:ext cx="7162920" cy="62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Gill Sans"/>
              </a:rPr>
              <a:t>Continue new Contributors and Translators he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09840" y="779400"/>
            <a:ext cx="13237920" cy="10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cc66"/>
                </a:solidFill>
                <a:latin typeface="Gill Sans"/>
              </a:rPr>
              <a:t>Copyright Attribution</a:t>
            </a:r>
            <a:endParaRPr b="0" lang="en-US" sz="57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509840" y="2590560"/>
            <a:ext cx="1323792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1052640" indent="-787680">
              <a:spcBef>
                <a:spcPts val="2313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Cookie Image: By brainloc on sxc.hu (Bob Smith) (stock.xchng) [CC BY 2.5 (http://creativecommons.org/licenses/by/2.5)], via Wikimedia Commons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Web Cookies to the Rescue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460760" y="7599960"/>
            <a:ext cx="736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en.wikipedia.org/wiki/HTTP_cooki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459080" y="3105000"/>
            <a:ext cx="1336176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Technically, cookies are arbitrary pieces of data chosen by the Web server and sent to the browser.  The browser returns them unchanged to the server, introducing a state (memory of previous events) into otherwise stateless HTTP transactions.  Without cookies, each retrieval of a Web page or component of a Web page is an isolated event, mostly unrelated to all other views of the pages of the same site. 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2844720" y="1066680"/>
            <a:ext cx="11087280" cy="6832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4732920" y="8003160"/>
            <a:ext cx="736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en.wikipedia.org/wiki/HTTP_cooki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9840" y="914400"/>
            <a:ext cx="13237920" cy="16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Cookies In the Browser</a:t>
            </a:r>
            <a:endParaRPr b="0" lang="en-US" sz="7500" spc="-1" strike="noStrike">
              <a:solidFill>
                <a:srgbClr val="ffff00"/>
              </a:solidFill>
              <a:latin typeface="Gill San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09840" y="2946240"/>
            <a:ext cx="13237920" cy="500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609480" indent="-6094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ookies are marked as to the web addresses they come from. The browser only sends back cookies that were originally set by the same web server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09480" indent="-609480">
              <a:spcBef>
                <a:spcPts val="35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ookies have an expiration date. Some last for years, others are short-term and go away as soon as the browser is closed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7596360" y="6553080"/>
            <a:ext cx="8262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http://php.net/manual/en/features.cookies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500120" y="1447920"/>
            <a:ext cx="1326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042920" y="685800"/>
            <a:ext cx="11396880" cy="54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// Note - cannot have any output before setcooki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! isset(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_COOKIE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['zap']) )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etcookie(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'zap', '42', time()+3600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)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re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 print_r(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_COOKIE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); ?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/pre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p&gt;&lt;a href="cookie.php"&gt;Click Me!&lt;/a&gt; or press Refresh&lt;/p&gt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083000" y="7619760"/>
            <a:ext cx="872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www.wa4e.com/code/sessions/cookie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icrosoft Office User</cp:lastModifiedBy>
  <dcterms:modified xsi:type="dcterms:W3CDTF">2017-07-05T16:25:34Z</dcterms:modified>
  <cp:revision>169</cp:revision>
  <dc:subject/>
  <dc:title>Cookies, Sessions, and Authentication</dc:title>
</cp:coreProperties>
</file>